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641-188C-4A90-9C34-7C3A884B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916-91C7-4C83-A538-3C2C2D79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6AB-C1BA-4248-8BEA-A6C24363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538-F28B-4834-A2FD-16DFE862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5F7-F172-4D55-BA3E-5A4CC638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3542-50B9-4187-B59E-5BBDF272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1FC5-2ACF-4130-8A81-A4129C07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3364-43C9-4873-8F70-E6FD808D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E8D9-8E81-4981-9C58-F47372B2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368F-BE78-45C3-B709-23990191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A1FD-D8D7-4F90-9EA8-C6317888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A95-9EC3-4D3C-8AA2-B4D8D535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624F-E254-46A2-A9C6-3F5A85A0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2574-F1E9-4C60-B871-2F06C738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2809-F2E4-4485-B3C4-3395ED4A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0D5D-D509-4F18-8B01-D4FB539B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AC53-29CF-40F3-ACA7-36C15018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919-6328-445C-8C5D-04D8EE9F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AEE-0E81-4F84-A16D-72A5E0B1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995-6A23-4ED5-897A-7CC2A485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810-3964-49F9-A19E-01AD16B2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2D6-33E5-4417-AF34-98D58123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B58-A094-4EB8-8D21-7955A00D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10D-4352-4CC7-8A96-1D34A57B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48F1-6D14-4F8A-92F6-0FDFE167D5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2ec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ef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2e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2e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2e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eef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eef8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2eced2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DD32-D4DC-4BB8-A181-708D575D74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2e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2e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2eced2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lcome to Parent Nigh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s. Bloedorn &amp; Mrs. Bradl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Jokerman LET"/>
              </a:rPr>
              <a:t>General Informat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ation chang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made in writ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te/doctor’s excuse needs to be returned to school within 3 days of an absence, otherwise it will be marked unexcu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r child eats breakfast, please be sure to talk to them about the importance of getting to class on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Jokerman LET"/>
              </a:rPr>
              <a:t>Daily Schedu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:05-9:05- Guided Reading Grou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:05-9:15- Restroom Br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:15-9:30- AMa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:35-10:15- Specia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:20-10:30- Sn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:30-11:00- Calend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:00-11:20- Language Ar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:20-11:50- Re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:55-12:25- Lun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:25-12:35- Restroom Br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:40-1:15- 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:15-1:50- Ma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:50-2:20- Social Studies/Sci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:20-2:30- Pack up/Teacher Read Alou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:30-Dismiss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Jokerman LET"/>
              </a:rPr>
              <a:t>Special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day- P.E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ppropriate sho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esday- Computer Lab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eadphon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dnesday- Mu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- 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iday- Libr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Jokerman LET"/>
              </a:rPr>
              <a:t>Morning</a:t>
            </a:r>
            <a:br>
              <a:rPr sz="5400"/>
            </a:br>
            <a:r>
              <a:rPr b="0" lang="en-US" sz="5400" spc="-1" strike="noStrike">
                <a:solidFill>
                  <a:srgbClr val="703dff"/>
                </a:solidFill>
                <a:latin typeface="Jokerman LET"/>
              </a:rPr>
              <a:t>Procedures &amp; Routin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morning, students make their lunch choice and unpack their book ba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turning in their homework folder, and filling water bottles, the students find their reading group t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17800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Jokerman LET"/>
              </a:rPr>
              <a:t>Reading Group Focus Char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666880"/>
          <a:ext cx="7238880" cy="267516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127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Mrs. Bloedo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Mrs. Bradl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Mr. Far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eat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reh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ord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ord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elling Pract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ding Strateg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on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ekly skil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ord Wall pract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u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ord Wall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</a:tbl>
          </a:graphicData>
        </a:graphic>
      </p:graphicFrame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Jokerman LET"/>
              </a:rPr>
              <a:t>Accelerated Reade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is AR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 is an individualized reading program to meet the needs of each studen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do the students do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93040" indent="-397440">
              <a:spcBef>
                <a:spcPts val="3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ad their leveled AR book at home to an adul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93040" indent="-397440">
              <a:spcBef>
                <a:spcPts val="3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ve their card in the morning to take a t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93040" indent="-397440">
              <a:spcBef>
                <a:spcPts val="3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ke a 5 or 10 question quiz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93040" indent="-397440">
              <a:spcBef>
                <a:spcPts val="3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et a new leveled book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w do the students meet their goals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Meet their individualized point goal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Average 85% or higher on their test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Read 9 or more nonfiction books each grading period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Reach their goal book level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parents can do to help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Read with your child every nigh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Ask you child questions about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24600" indent="-33120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24600" indent="-33120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24600" indent="-33120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24600" indent="-33120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blems &amp; Solu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24600" indent="-33120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k your child how they did on their t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Jokerman LET"/>
              </a:rPr>
              <a:t>Accelerated Mat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is AMath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Math is a computer-based, individualized math program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do the students do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Complete their math multiple choice math practice during clas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urn in their orange AMath folder for grading.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 A TOPS report will be printed and stapled to the top of their packet.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ACTICE or TEST will be highlighted at the top as well as their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ade.  This report will identify the problems missed and th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rrect answers.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After successfully completing their practice the students will be able to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st out of those specific objectiv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w do students meet their goals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Meet their individualized objective goal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Average 80% or better on their tests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parents can do to help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Go over missed problems at hom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Ask your child if they completed their AMath assignmen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sk you child to see their TOPS report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Jokerman LET"/>
              </a:rPr>
              <a:t>Discipli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Expect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rded on homework log by coloring in smiley face with corresponding strip col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4 laps around small court during play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Yello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8 laps around small cou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 home to be signed and return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12 laps around small cou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 home to be signed and return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Jokerman LET"/>
              </a:rPr>
              <a:t>Incentive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can earn class marbl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also have the opportunity to earn token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can earn stickers for a NO HOMEWORK P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8:01:59Z</dcterms:created>
  <dc:creator>Becki</dc:creator>
  <dc:description/>
  <dc:language>en-US</dc:language>
  <cp:lastModifiedBy>Becki</cp:lastModifiedBy>
  <dcterms:modified xsi:type="dcterms:W3CDTF">2007-09-11T02:05:33Z</dcterms:modified>
  <cp:revision>5</cp:revision>
  <dc:subject/>
  <dc:title>Welcome to Parent Night</dc:title>
</cp:coreProperties>
</file>